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A7D0-C488-4409-82E2-5EB7D1DF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DB78-9307-4B09-A056-504591A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85C2-7294-46B4-896D-49C1B330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518B-FF1B-4EAE-B6D4-6F3C18E3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28F-01F5-4A29-817F-016434B3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82B-92DB-4A56-A655-67FAC5D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6935-8904-4A6C-85E0-3C3B73A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50B4-A911-4CE5-B8B0-50B623A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D618-3EA0-4402-AB72-3A3DB77B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86BB-24C0-4B9D-B52F-919D3641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CEC-D712-4A9A-A036-5EB9083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23D2-7DCE-4EF9-A8F1-9240BE5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E964-FE28-4F70-A0F2-29C5990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CD40-42C2-4F54-ABDC-93E0C911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0F78-3970-44CA-9C61-B2F42CA1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FB4-68CA-43DF-91E4-5E718304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DDC-CE2C-465D-B2FF-C311E64D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EE4B8-7438-49FB-971F-08DB470B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176AC-643E-4228-8D8B-5C822411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B6B64-7AF7-41D0-9C70-21E4798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C310E-16C1-47F5-A710-5B201B53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B33F2-7C78-4307-9FD1-AD884BDA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45B4-76AF-407A-80CC-88CFB3FC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4CC94-A436-4F19-BD74-E997562C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C34C6-FABF-4C0A-9AEA-8AEEC67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A9B2A-235D-4C3C-8ED3-6533022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E13E7-AA33-4FD8-B387-AC81FEE7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F5E25-8384-4115-9683-8EA46EA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53293-CF2E-48F1-B22A-2F9D1418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0AC30-F4E2-4E6B-9AC0-290773A8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9243-066A-4F8C-8766-B36F19BA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FE5D-83B5-44C4-BC84-494CFBC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30EA-23AE-476C-BA8E-2B32A10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8320-203F-4025-B115-FC87AC72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D822-891D-4375-A3DC-4CFA19E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F44F-B2C8-448E-BD9D-F56EB3A5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2CE9-C67F-4A72-989A-F273B619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7A23-A5D9-4AA0-8E6F-3FAF049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86E3-E819-4004-B770-2D7C626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50B5-867E-436B-87D1-7759AC3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9257-B667-490B-A5D2-24CB0EDD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7873-8E1A-4803-83E5-34037F2F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11B9-9ECA-4D87-9503-D359F29C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2276-B1EF-4FB0-8C79-12EABEC4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5E3A-9BC4-4C57-9FC5-D7889CFF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CF62-4A9A-4AAF-9CA4-D815DCD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1A02-D663-4DE0-B512-27C6B637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C9F8-6CFD-4433-BAF8-AE3D532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5200" y="1454040"/>
            <a:ext cx="10388880" cy="6258600"/>
            <a:chOff x="-115200" y="1454040"/>
            <a:chExt cx="10388880" cy="625860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5200" y="1821240"/>
              <a:ext cx="3076200" cy="10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42840" y="1988280"/>
              <a:ext cx="35859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7520" y="2112840"/>
              <a:ext cx="396144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75960" y="2263320"/>
              <a:ext cx="4367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90360" y="2463120"/>
              <a:ext cx="4885920" cy="104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14840" y="2685960"/>
              <a:ext cx="53938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64520" y="2988000"/>
              <a:ext cx="60022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74960" y="3286080"/>
              <a:ext cx="6612480" cy="1044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91600" y="3620160"/>
              <a:ext cx="7424280" cy="1080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78000" y="4037040"/>
              <a:ext cx="813492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552600" y="4614840"/>
              <a:ext cx="9171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400" y="5080320"/>
              <a:ext cx="9526680" cy="1080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325240" y="5163840"/>
              <a:ext cx="8134920" cy="1044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727520" y="5415480"/>
              <a:ext cx="6307920" cy="1044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7147080" y="6179760"/>
              <a:ext cx="366660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9467640" y="7348680"/>
              <a:ext cx="88344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57760" y="4162320"/>
              <a:ext cx="10664280" cy="1008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49200" y="5989680"/>
              <a:ext cx="7305840" cy="1044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91600" y="6391800"/>
              <a:ext cx="4945680" cy="1008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94040" y="6917760"/>
              <a:ext cx="246924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81600" y="5681520"/>
              <a:ext cx="9660960" cy="1008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203040" y="3755160"/>
              <a:ext cx="10611360" cy="1044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40400" y="3431520"/>
              <a:ext cx="10152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658440" y="3178080"/>
              <a:ext cx="96570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494720" y="2790360"/>
              <a:ext cx="87768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856160" y="2603880"/>
              <a:ext cx="839412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2193120" y="2428560"/>
              <a:ext cx="8037720" cy="1044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621520" y="2301120"/>
              <a:ext cx="760932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909520" y="2148480"/>
              <a:ext cx="7327080" cy="108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1076760" y="2970360"/>
              <a:ext cx="9179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60360" y="5248440"/>
              <a:ext cx="10847880" cy="1044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307080" y="4696920"/>
              <a:ext cx="10766520" cy="1008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04280" y="592452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15440" y="54219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79720" y="6441480"/>
              <a:ext cx="345240" cy="186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662640" y="469368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56400" y="54255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973240" y="5039640"/>
              <a:ext cx="275040" cy="1580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321920" y="5007600"/>
              <a:ext cx="266040" cy="1569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46560" y="4684680"/>
              <a:ext cx="264600" cy="1483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066400" y="465984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234320" y="438300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68520" y="408168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120" y="379980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5520" y="4065480"/>
              <a:ext cx="246960" cy="127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9360" y="334800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62800" y="31608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2240" y="33444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03600" y="3135960"/>
              <a:ext cx="225720" cy="1094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9440" y="357012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8440" y="3809880"/>
              <a:ext cx="234720" cy="10728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66960" y="432684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5360" y="35773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7960" y="38365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99880" y="4076280"/>
              <a:ext cx="236160" cy="1267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34720" y="361080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13480" y="31806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45280" y="33724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1320" y="31770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7720" y="33606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8680" y="315216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8360" y="3584520"/>
              <a:ext cx="235800" cy="1281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9160" y="382032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06880" y="33796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1720" y="31698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8360" y="33534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1040" y="40975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35320" y="384156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90680" y="436032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86320" y="3554280"/>
              <a:ext cx="246960" cy="1267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69320" y="299880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80880" y="282060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41880" y="2656440"/>
              <a:ext cx="2170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27080" y="281376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96440" y="298080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46360" y="26672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0280" y="299160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35680" y="282420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3640" y="297396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20920" y="266724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2280" y="281700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1040" y="266004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6120" y="299520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91480" y="2813760"/>
              <a:ext cx="21852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30240" y="266544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7200" y="297756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0120" y="282060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9320" y="26564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7720" y="266904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79960" y="300060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06480" y="283644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60440" y="6443280"/>
              <a:ext cx="345960" cy="195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46320" y="7080120"/>
              <a:ext cx="336600" cy="19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0840" y="545040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92520" y="505728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26760" y="470592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8320" y="432828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75920" y="592668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93800" y="406044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9640" y="355248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9320" y="380628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65240" y="33480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0720" y="316980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45560" y="2998800"/>
              <a:ext cx="218520" cy="892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0600" y="282780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71160" y="2667240"/>
              <a:ext cx="225360" cy="89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5080" y="2524320"/>
              <a:ext cx="195480" cy="88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63680" y="252252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5280" y="252252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1600" y="240984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8760" y="227880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25840" y="206388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8480" y="2413440"/>
              <a:ext cx="19728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57920" y="215208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94320" y="226512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29040" y="2543760"/>
              <a:ext cx="19548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5160" y="251172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76760" y="2265120"/>
              <a:ext cx="19584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7120" y="239544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" y="203580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3520" y="240768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760" y="2540160"/>
              <a:ext cx="185040" cy="7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40880" y="2392200"/>
              <a:ext cx="186480" cy="78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0" y="2392200"/>
              <a:ext cx="186840" cy="78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920" y="216612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2840" y="195624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42160" y="184356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4680" y="183456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8440" y="225252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8000" y="238140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6440" y="251892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19240" y="186984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5480" y="185220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4960" y="187524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86040" y="22651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32240" y="2051640"/>
              <a:ext cx="19692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6400" y="216828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97640" y="196164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25680" y="185436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83760" y="255060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3960" y="228240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0720" y="204444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18240" y="194220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8040" y="204984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06240" y="23922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9960" y="215748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64680" y="193716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91440" y="227376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1440" y="236880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96040" y="20394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1680" y="215568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16960" y="196164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7640" y="205704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45840" y="197748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42960" y="214488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98800" y="206388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173320"/>
              <a:ext cx="195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640" y="194076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160" y="231444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12720" y="176580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4480" y="1787040"/>
              <a:ext cx="17820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66840" y="177840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1760" y="1765800"/>
              <a:ext cx="1760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1760" y="166032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7120" y="175536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9760" y="2504880"/>
              <a:ext cx="1864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9720" y="267408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82800" y="227016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5920" y="213804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3080" y="1602000"/>
              <a:ext cx="13932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8760" y="160200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4160" y="153288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09520" y="145404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2560" y="1532880"/>
              <a:ext cx="147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3360" y="162828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73560" y="1688400"/>
              <a:ext cx="16740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17280" y="1697040"/>
              <a:ext cx="15696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7200" y="16812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6680" y="7102800"/>
              <a:ext cx="343800" cy="1850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38360" y="6474960"/>
              <a:ext cx="345240" cy="19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0680" y="550512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61120" y="5079960"/>
              <a:ext cx="276480" cy="156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0480" y="59565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23440" y="4686840"/>
              <a:ext cx="266040" cy="147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13680" y="4365720"/>
              <a:ext cx="275040" cy="156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31640" y="408168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0600" y="356652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94880" y="381348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76640" y="33868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34400" y="318744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02600" y="30020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07080" y="284688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20920" y="268308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40920" y="7180560"/>
              <a:ext cx="345240" cy="1864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39320" y="6513840"/>
              <a:ext cx="345240" cy="195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18240" y="6535080"/>
              <a:ext cx="354240" cy="186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0720" y="7141680"/>
              <a:ext cx="345240" cy="1850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5120" y="598968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18600" y="554040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96320" y="602856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9800" y="506736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35520" y="5496120"/>
              <a:ext cx="295920" cy="167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695160" y="507816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16440" y="471492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58800" y="438840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01920" y="361980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02600" y="4081680"/>
              <a:ext cx="246600" cy="128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379440" y="383832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43480" y="340956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33920" y="31946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87840" y="472716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15200" y="5053680"/>
              <a:ext cx="264600" cy="156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80" y="436932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6560" y="253296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19080" y="7072920"/>
              <a:ext cx="354600" cy="186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5C92A66-0D6F-4FCB-9D21-39ED4A792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50796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471840" y="6937200"/>
            <a:ext cx="3216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70080" indent="-2541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8040" indent="-25416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-2541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6000" indent="-2541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6000" indent="-25416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16640" y="1457280"/>
            <a:ext cx="10388880" cy="6258600"/>
            <a:chOff x="-116640" y="1457280"/>
            <a:chExt cx="10388880" cy="625860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6640" y="1824480"/>
              <a:ext cx="3076200" cy="10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44280" y="1991520"/>
              <a:ext cx="35859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8960" y="2115720"/>
              <a:ext cx="396144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77400" y="2266560"/>
              <a:ext cx="4367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91800" y="2466360"/>
              <a:ext cx="4885920" cy="104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16280" y="2688840"/>
              <a:ext cx="53938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65960" y="2991240"/>
              <a:ext cx="60022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76400" y="3289320"/>
              <a:ext cx="6612480" cy="1044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93040" y="3623400"/>
              <a:ext cx="7424280" cy="1080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79440" y="4039920"/>
              <a:ext cx="813492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554040" y="4618080"/>
              <a:ext cx="9171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960" y="5083560"/>
              <a:ext cx="9526680" cy="1080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323800" y="5167080"/>
              <a:ext cx="8134920" cy="1044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726080" y="5418720"/>
              <a:ext cx="6307920" cy="1044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7145640" y="6182640"/>
              <a:ext cx="366660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9466200" y="7351920"/>
              <a:ext cx="88344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59200" y="4165560"/>
              <a:ext cx="10664280" cy="1008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50640" y="5992920"/>
              <a:ext cx="7305840" cy="1044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93040" y="6394680"/>
              <a:ext cx="4945680" cy="1008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95480" y="6920640"/>
              <a:ext cx="246924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83040" y="5684400"/>
              <a:ext cx="9660960" cy="1008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204480" y="3758400"/>
              <a:ext cx="10611360" cy="1044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38960" y="3434400"/>
              <a:ext cx="10152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657000" y="3181320"/>
              <a:ext cx="96570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493280" y="2793600"/>
              <a:ext cx="87768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854720" y="2606760"/>
              <a:ext cx="839412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2191680" y="2431800"/>
              <a:ext cx="8037720" cy="1044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620080" y="2304360"/>
              <a:ext cx="760932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908080" y="2151720"/>
              <a:ext cx="7327080" cy="108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1075320" y="2973600"/>
              <a:ext cx="9179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61800" y="5251320"/>
              <a:ext cx="10847880" cy="1044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308520" y="4699800"/>
              <a:ext cx="10766520" cy="1008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02840" y="592776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000" y="542484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8280" y="6444360"/>
              <a:ext cx="345240" cy="186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61200" y="469656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54960" y="542844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5042520"/>
              <a:ext cx="275040" cy="1580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20480" y="5010480"/>
              <a:ext cx="266040" cy="1569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120" y="4687920"/>
              <a:ext cx="264600" cy="1483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4960" y="466308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32880" y="438624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67080" y="408456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3680" y="380268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34080" y="4068720"/>
              <a:ext cx="246960" cy="127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7920" y="335124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61360" y="31640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20800" y="33476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02160" y="3139200"/>
              <a:ext cx="225720" cy="1094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78000" y="357300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7000" y="3813120"/>
              <a:ext cx="234720" cy="10728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5520" y="432972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83920" y="358020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6520" y="383940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8440" y="4079520"/>
              <a:ext cx="236160" cy="1267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3280" y="361404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12040" y="31834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3840" y="337572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79880" y="31798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6280" y="33634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7240" y="31554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6920" y="3587400"/>
              <a:ext cx="235800" cy="1281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7720" y="382356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05440" y="338292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280" y="31726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6920" y="33562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600" y="410076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33880" y="384480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89240" y="436356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84880" y="3557520"/>
              <a:ext cx="246960" cy="1267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67880" y="300204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440" y="28238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40440" y="2659680"/>
              <a:ext cx="2170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25640" y="281700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5000" y="298404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44920" y="267048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78840" y="29948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34240" y="28274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32200" y="297720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19480" y="267048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0840" y="28202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600" y="266328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680" y="299844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90040" y="2817000"/>
              <a:ext cx="21852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28800" y="266868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65760" y="298080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8680" y="28238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37880" y="265968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96280" y="267228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8520" y="300384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05040" y="283968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59000" y="6446160"/>
              <a:ext cx="345960" cy="195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44880" y="7083000"/>
              <a:ext cx="336600" cy="19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9400" y="545328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91080" y="506016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5320" y="470916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26880" y="433152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74480" y="59295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2360" y="406368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8200" y="355572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17880" y="380952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63800" y="33512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49280" y="317268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44120" y="3002040"/>
              <a:ext cx="218520" cy="892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19160" y="28310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69720" y="2670480"/>
              <a:ext cx="225360" cy="89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640" y="2527200"/>
              <a:ext cx="195480" cy="88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62240" y="252576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93840" y="252576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0160" y="241308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57320" y="228204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24400" y="206712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7040" y="2416680"/>
              <a:ext cx="19728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56480" y="215532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92880" y="226800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27600" y="2547000"/>
              <a:ext cx="19548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53720" y="251496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75320" y="2268000"/>
              <a:ext cx="19584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5680" y="239868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2880" y="203904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2080" y="241092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1320" y="2543400"/>
              <a:ext cx="185040" cy="7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39440" y="2395440"/>
              <a:ext cx="186480" cy="78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11360" y="2395440"/>
              <a:ext cx="186840" cy="78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28480" y="216936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21400" y="195948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40720" y="184680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3240" y="183780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7000" y="225576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56560" y="238464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45000" y="252216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17800" y="187308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14040" y="185544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73520" y="187848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84600" y="226800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30800" y="2054880"/>
              <a:ext cx="19692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44960" y="217152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6200" y="196488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24240" y="18576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2320" y="255384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2520" y="228564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09280" y="204768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6800" y="194544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76600" y="205308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04800" y="239544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88520" y="216072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3240" y="19404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90000" y="227700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0000" y="237204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94600" y="204264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0240" y="215892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5520" y="196488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6200" y="20602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44400" y="198072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41520" y="21481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97360" y="206712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2520" y="2176560"/>
              <a:ext cx="195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3200" y="194400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7720" y="231768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11280" y="176904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3040" y="1790280"/>
              <a:ext cx="17820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65400" y="178128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30320" y="1769040"/>
              <a:ext cx="1760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90320" y="166356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85680" y="175860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38320" y="2508120"/>
              <a:ext cx="1864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8280" y="267732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81360" y="227340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4480" y="214128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61640" y="1605240"/>
              <a:ext cx="13932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27320" y="160524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2720" y="153612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08080" y="145728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81120" y="1536120"/>
              <a:ext cx="147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31920" y="163152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72120" y="1691640"/>
              <a:ext cx="16740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15840" y="1700280"/>
              <a:ext cx="15696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5760" y="1684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95240" y="7105680"/>
              <a:ext cx="343800" cy="1850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6920" y="6477840"/>
              <a:ext cx="345240" cy="19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09240" y="550800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59680" y="5082840"/>
              <a:ext cx="276480" cy="156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99040" y="595944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2000" y="4689720"/>
              <a:ext cx="266040" cy="147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12240" y="4368600"/>
              <a:ext cx="275040" cy="156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30200" y="408456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09160" y="356940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93440" y="38167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0" y="339012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2960" y="319032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101160" y="300528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05640" y="285012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519480" y="268596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39480" y="7183440"/>
              <a:ext cx="345240" cy="186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37880" y="6516720"/>
              <a:ext cx="345240" cy="195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16800" y="6537960"/>
              <a:ext cx="354240" cy="186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19280" y="7144560"/>
              <a:ext cx="345240" cy="1850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33680" y="599292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17160" y="554328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894880" y="603144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28360" y="507060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334080" y="5499360"/>
              <a:ext cx="295920" cy="167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693720" y="508140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15000" y="471780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57360" y="439128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600480" y="362268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01160" y="4084560"/>
              <a:ext cx="246600" cy="1285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78000" y="384156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842040" y="34128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032480" y="319752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86400" y="473004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16640" y="5056560"/>
              <a:ext cx="264600" cy="156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437220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8000" y="253620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17640" y="7075800"/>
              <a:ext cx="354600" cy="186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50796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CB1469AB-8A26-465B-BBF9-8C9C5C495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015920" algn="ctr">
              <a:spcBef>
                <a:spcPts val="675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523880" algn="ctr">
              <a:spcBef>
                <a:spcPts val="5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31840" algn="ctr">
              <a:spcBef>
                <a:spcPts val="55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31840">
              <a:spcBef>
                <a:spcPts val="5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31840">
              <a:spcBef>
                <a:spcPts val="5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0" y="0"/>
            <a:ext cx="10177200" cy="7619760"/>
            <a:chOff x="0" y="0"/>
            <a:chExt cx="10177200" cy="7619760"/>
          </a:xfrm>
        </p:grpSpPr>
        <p:sp>
          <p:nvSpPr>
            <p:cNvPr id="515" name=""/>
            <p:cNvSpPr/>
            <p:nvPr/>
          </p:nvSpPr>
          <p:spPr>
            <a:xfrm>
              <a:off x="9228600" y="1440"/>
              <a:ext cx="930960" cy="76183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62640" y="0"/>
              <a:ext cx="33804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7760" y="0"/>
              <a:ext cx="761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79080" y="0"/>
              <a:ext cx="423360" cy="761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70600" y="0"/>
              <a:ext cx="67716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6720" y="0"/>
              <a:ext cx="101592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960" y="0"/>
              <a:ext cx="338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507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988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10760" y="0"/>
              <a:ext cx="930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01040" y="0"/>
              <a:ext cx="25380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20480" y="0"/>
              <a:ext cx="44424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12680" y="0"/>
              <a:ext cx="2538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27720" y="0"/>
              <a:ext cx="1185120" cy="761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80480" y="0"/>
              <a:ext cx="11001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73040" y="0"/>
              <a:ext cx="93132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0472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7160" y="0"/>
              <a:ext cx="26784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73120" y="0"/>
              <a:ext cx="5925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40" y="6834960"/>
              <a:ext cx="10159920" cy="7848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6820560"/>
              <a:ext cx="10177200" cy="3070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44000" cy="5033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31752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70080" indent="-25416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778040" indent="-254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286000" indent="-25416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7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8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2A1DA98-C8E2-4A39-95AA-863E8F682007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9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0"/>
            <a:ext cx="10177200" cy="7619760"/>
            <a:chOff x="0" y="0"/>
            <a:chExt cx="10177200" cy="7619760"/>
          </a:xfrm>
        </p:grpSpPr>
        <p:sp>
          <p:nvSpPr>
            <p:cNvPr id="578" name=""/>
            <p:cNvSpPr/>
            <p:nvPr/>
          </p:nvSpPr>
          <p:spPr>
            <a:xfrm>
              <a:off x="9228600" y="1440"/>
              <a:ext cx="930960" cy="76183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62640" y="0"/>
              <a:ext cx="33804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47760" y="0"/>
              <a:ext cx="761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79080" y="0"/>
              <a:ext cx="423360" cy="761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0600" y="0"/>
              <a:ext cx="67716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6720" y="0"/>
              <a:ext cx="101592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7960" y="0"/>
              <a:ext cx="338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0"/>
              <a:ext cx="507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0988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10760" y="0"/>
              <a:ext cx="930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01040" y="0"/>
              <a:ext cx="25380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20480" y="0"/>
              <a:ext cx="44424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12680" y="0"/>
              <a:ext cx="2538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27720" y="0"/>
              <a:ext cx="1185120" cy="761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80480" y="0"/>
              <a:ext cx="11001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3040" y="0"/>
              <a:ext cx="93132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0472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27160" y="0"/>
              <a:ext cx="26784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73120" y="0"/>
              <a:ext cx="5925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40" y="6834960"/>
              <a:ext cx="10159920" cy="7848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6820560"/>
              <a:ext cx="10177200" cy="3070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1760" y="177804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0"/>
          </p:nvPr>
        </p:nvSpPr>
        <p:spPr>
          <a:xfrm>
            <a:off x="50796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1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2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DF8731F-2F0D-49A4-BF07-C8D74F8D6E85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15920" algn="ctr">
              <a:spcBef>
                <a:spcPts val="675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23880" algn="ctr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31840" algn="ctr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318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318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almightydad.com/wp-content/uploads/2009/11/smiley-face.jpg&amp;imgrefurl=http://www.almightydad.com/fitness-nutrition/gaining-holiday-weight-dont-let-it-get-you-down&amp;usg=__N7bOAJaSsG2cBlS0b-NQuMBUhR4=&amp;h=1200&amp;w=1200&amp;sz=226&amp;hl=en&amp;start=1&amp;zoom=1&amp;itbs=1&amp;tbnid=BqoKe6gz24p-aM:&amp;tbnh=150&amp;tbnw=150&amp;prev=/images%3Fq%3Dsmiley%2Bface%26hl%3Den%26gbv%3D2%26tbs%3Disch: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06400" y="1831680"/>
            <a:ext cx="854712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"/>
              </a:rPr>
              <a:t>Present Day Russi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566720" y="4368960"/>
            <a:ext cx="70279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By: Magdalena, Jennifer, and Ja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ffff00"/>
                </a:solidFill>
                <a:latin typeface="Arial"/>
              </a:rPr>
              <a:t>Environmental Issues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00ff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00ff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66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Arial"/>
              </a:rPr>
              <a:t>They also polluted the air, water, and land.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9966ff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8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30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32" dur="2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3366ff"/>
                </a:solidFill>
                <a:latin typeface="Arial"/>
              </a:rPr>
              <a:t>Environmental Issues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383b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9383b3"/>
                </a:solidFill>
                <a:latin typeface="Arial"/>
              </a:rPr>
              <a:t>Here are some pictures showing these environmental problems in Russi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0080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se are factories g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ut gas (right). And to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left) are nuclear power pl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867200" y="3429000"/>
            <a:ext cx="5292720" cy="3525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4741920" cy="30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336699"/>
                </a:solidFill>
                <a:latin typeface="Arial"/>
              </a:rPr>
              <a:t>Life Expectancy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"/>
              </a:rPr>
              <a:t>Now most people are suffering from lung diseases. This shows that Russia’s population is becoming less healt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tal population: 66.39 year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: 59.91 year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emale: 73.27 years (2004 est.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993366"/>
                </a:solidFill>
                <a:latin typeface="Arial"/>
              </a:rPr>
              <a:t>Life Expectancy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ccff3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ccff33"/>
                </a:solidFill>
                <a:latin typeface="Arial"/>
              </a:rPr>
              <a:t>Here is a chart showing lowering rates of life expectancy in Russi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930240" y="2624040"/>
            <a:ext cx="7886880" cy="499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7320" y="303120"/>
            <a:ext cx="966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45818e"/>
                </a:solidFill>
                <a:latin typeface="Arial"/>
              </a:rPr>
              <a:t>          </a:t>
            </a:r>
            <a:r>
              <a:rPr b="0" lang="en-US" sz="4900" spc="-1" strike="noStrike">
                <a:solidFill>
                  <a:srgbClr val="45818e"/>
                </a:solidFill>
                <a:latin typeface="Arial"/>
              </a:rPr>
              <a:t>Russia's New Goverment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d966"/>
                </a:solidFill>
                <a:latin typeface="Arial"/>
              </a:rPr>
              <a:t>Russia is still learning on how to act in their new gover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Before, the Russian leaders could do whatever they wa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They also got to punish any people who would criticize their desc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e06666"/>
                </a:solidFill>
                <a:latin typeface="Arial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r>
              <a:rPr b="1" lang="en-US" sz="49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Russia has many different ethnic groups.Some groups want to form their own countries seperate from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b45f06"/>
                </a:solidFill>
                <a:latin typeface="Arial"/>
              </a:rPr>
              <a:t>One of these groups are the Chechens. They live in Chechnya close to the Caspian Sea in the southern part of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Russian troops have fought the Chechen forces to still keep Chechnya a part of southern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9fc5e8"/>
                </a:solidFill>
                <a:latin typeface="Arial"/>
              </a:rPr>
              <a:t>                  </a:t>
            </a:r>
            <a:r>
              <a:rPr b="1" lang="en-US" sz="49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5800" y="1422360"/>
            <a:ext cx="966780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b6d7a8"/>
                </a:solidFill>
                <a:latin typeface="Arial"/>
              </a:rPr>
              <a:t>Here is a map showing some different ethnic groups in Russia including Chechnya(Chechen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b6d7a8"/>
                </a:solidFill>
                <a:latin typeface="Arial"/>
              </a:rPr>
              <a:t>                  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b6d7a8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346040" y="2286000"/>
            <a:ext cx="6248520" cy="514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Good Things About Present Russia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9966ff"/>
                </a:solidFill>
                <a:latin typeface="Arial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66ffcc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66ffcc"/>
                </a:solidFill>
                <a:latin typeface="Arial"/>
              </a:rPr>
              <a:t>Russia is starting their first suburbs around cities. This idea may give people more space, but still be close to cit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5240" y="5257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 </cp:lastModifiedBy>
  <dcterms:modified xsi:type="dcterms:W3CDTF">2010-12-20T13:55:34Z</dcterms:modified>
  <cp:revision>7</cp:revision>
  <dc:subject/>
  <dc:title>PowerPoint Presentation</dc:title>
</cp:coreProperties>
</file>